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6.png" ContentType="image/png"/>
  <Override PartName="/ppt/media/image7.png" ContentType="image/png"/>
  <Override PartName="/ppt/media/image12.wmf" ContentType="image/x-wmf"/>
  <Override PartName="/ppt/media/image8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5.jpeg" ContentType="image/jpeg"/>
  <Override PartName="/ppt/media/image10.png" ContentType="image/png"/>
  <Override PartName="/ppt/media/image30.wmf" ContentType="image/x-wmf"/>
  <Override PartName="/ppt/media/image4.png" ContentType="image/png"/>
  <Override PartName="/ppt/media/image34.png" ContentType="image/png"/>
  <Override PartName="/ppt/media/image31.jpeg" ContentType="image/jpeg"/>
  <Override PartName="/ppt/media/image2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jpeg" ContentType="image/jpeg"/>
  <Override PartName="/ppt/media/image17.png" ContentType="image/png"/>
  <Override PartName="/ppt/media/image18.png" ContentType="image/png"/>
  <Override PartName="/ppt/media/image36.jpeg" ContentType="image/jpeg"/>
  <Override PartName="/ppt/media/image20.png" ContentType="image/png"/>
  <Override PartName="/ppt/media/image19.png" ContentType="image/png"/>
  <Override PartName="/ppt/media/image21.jpeg" ContentType="image/jpeg"/>
  <Override PartName="/ppt/media/image29.png" ContentType="image/png"/>
  <Override PartName="/ppt/media/image32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1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3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0" y="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3970440" y="0"/>
            <a:ext cx="3039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85840" y="696960"/>
            <a:ext cx="4626000" cy="347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6080" bIns="460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3080" y="4416120"/>
            <a:ext cx="5591160" cy="41670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5"/>
          <p:cNvSpPr/>
          <p:nvPr/>
        </p:nvSpPr>
        <p:spPr>
          <a:xfrm>
            <a:off x="0" y="8829720"/>
            <a:ext cx="3040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3970440" y="8827920"/>
            <a:ext cx="3024000" cy="4492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29480"/>
                <a:tab algn="l" pos="7178760"/>
                <a:tab algn="l" pos="7626240"/>
                <a:tab algn="l" pos="8075520"/>
                <a:tab algn="l" pos="852480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29480"/>
                <a:tab algn="l" pos="7178760"/>
                <a:tab algn="l" pos="7626240"/>
                <a:tab algn="l" pos="8075520"/>
                <a:tab algn="l" pos="852480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fld id="{92A7D3BA-FF31-4E2C-9DB7-93DC0BCBF3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6"/>
          <p:cNvSpPr/>
          <p:nvPr/>
        </p:nvSpPr>
        <p:spPr>
          <a:xfrm>
            <a:off x="3970440" y="8827920"/>
            <a:ext cx="3024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29480"/>
                <a:tab algn="l" pos="7178760"/>
                <a:tab algn="l" pos="7626240"/>
                <a:tab algn="l" pos="8075520"/>
                <a:tab algn="l" pos="852480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fld id="{9970713E-DA71-4F7B-80BF-8EF28A647B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"/>
          <p:cNvSpPr/>
          <p:nvPr/>
        </p:nvSpPr>
        <p:spPr>
          <a:xfrm>
            <a:off x="3970440" y="8829720"/>
            <a:ext cx="30398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0640"/>
                <a:tab algn="l" pos="3139920"/>
                <a:tab algn="l" pos="3589200"/>
                <a:tab algn="l" pos="4037040"/>
                <a:tab algn="l" pos="4486320"/>
                <a:tab algn="l" pos="4935600"/>
                <a:tab algn="l" pos="5383080"/>
                <a:tab algn="l" pos="5832360"/>
                <a:tab algn="l" pos="6281640"/>
                <a:tab algn="l" pos="6729480"/>
                <a:tab algn="l" pos="7178760"/>
                <a:tab algn="l" pos="7626240"/>
                <a:tab algn="l" pos="8075520"/>
                <a:tab algn="l" pos="8524800"/>
                <a:tab algn="l" pos="8972640"/>
                <a:tab algn="l" pos="9144000"/>
                <a:tab algn="l" pos="9601200"/>
                <a:tab algn="l" pos="10058400"/>
                <a:tab algn="l" pos="10515600"/>
              </a:tabLst>
            </a:pPr>
            <a:fld id="{A7657158-D4DC-4266-976E-B6EF302F3D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1155600" y="696960"/>
            <a:ext cx="47005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9640" rIns="89640" tIns="45000" bIns="450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body"/>
          </p:nvPr>
        </p:nvSpPr>
        <p:spPr>
          <a:xfrm>
            <a:off x="703080" y="4416480"/>
            <a:ext cx="559260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CBB3-30C7-49B0-B998-C42D8219B7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310B4-45E3-4EC7-A033-455CDA8BD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828FC-40E2-4982-AF50-94CFC6753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63E6-7795-4FD3-8180-92A9B835B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940F8-EA97-4D92-8871-1A180A3F08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6EF70-F0D2-405F-BEBB-E353BA9E168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FC1F-C469-4912-A009-7F98CFD8B45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EFCF6-FA93-4FD7-A9D3-917A7FA29F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173BA-A9A5-4EBC-88BA-36A9D7DD68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22BC0-789E-427B-97CE-F682B71188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4678-2513-4A1E-94F6-C4025C96BF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2FE6-4AE9-400E-BF32-5A14B3966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520CF-5710-4470-BE7E-023A9D439E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3347-27D9-41B6-BD3C-55A2691E16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2C2D1-2450-4189-8215-9A1D73E733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C7416-CA82-41C0-AC12-41D4526645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4E66E-462C-4CBA-8E7B-D8DB3F2FA24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FC3-6511-4DB0-8D0D-1CFC5CAC33D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1BBE-122D-43C9-8459-4540AFF93D1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724C-E64F-4055-AE44-6061992952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EC2-5712-4115-A2B6-472396B1E6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12C-CF94-4FFC-9AC5-7A5440B183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6B8F4-6B19-45CF-AEC0-C9E6D180AE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BB8-F11C-4DDA-96B2-A2EA89067E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1C6-756E-4E0C-B32A-40F3761397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79E-A4FE-4B12-A5C9-869D024727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4310-7567-4D82-B057-5E4D3FC31A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5F3-D5DC-4798-B889-DCED34181B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5E7-7AC2-41CB-A43D-DC6B475E5A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DE8-407D-49CD-B06A-8D3A6DE9F7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EFCE3-D8BF-41D1-AFC3-90DE3FCAA25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A90B8-7E12-4EF6-9EAB-5BC61FCCA35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424FA6-834A-4972-B698-18D317E8D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5A84-4968-4A29-8CFF-E600ECA6D0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39787-2C4F-47D6-BF6C-06B91E8037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1C145-0EEA-4DD4-AE02-4FD6E5BF1F6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1B914-F21B-4E17-A01B-0A1EC73967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A2E17-B6FE-4FF4-89F9-7DB502E2F1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96C34-D21E-4E69-B29E-A45DBD7E621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8FD89-DFFB-4C8D-97C1-9CAA0430B08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F0B0D-CE3F-4644-A281-286B7963D1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7B992-5392-4520-9A7A-2033A5A1865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03C13-218E-4858-ACAC-0924E1273F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D35AD-BC8A-47CC-A1B5-B0C8A0CA9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7F44-658B-40DA-9687-07F58DBBDCE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EEC1D-2B52-4522-A198-E7542449B5C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72715-C251-4974-A07B-397677CE456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AB598-7DC8-437D-8EA4-12EF039718D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5D9D8-E81F-42D7-AAB4-6FFC2EA6CA6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7933C-F96E-412B-A6A3-EA7A280CCBA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BE7AE-2F55-4FC4-800C-C6FE8AC38F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0A9DD-DD4F-47E1-95DC-BEE86D208F4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FF918-F432-4502-B227-EC5C02D994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F0BAF-D8CE-43B7-9BB9-9730585D09F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65D40-ADA0-4C7F-BCF2-38683046DA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E9C67-A210-4475-9C8A-F9B8285A8B8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A4B25-681E-42D0-B6A2-F684C315BAC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B0D9-F764-474B-A02C-BB234EA574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F708-F4F0-4C98-9802-4A7935DBDC8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ECEC-EBB3-414D-A398-B1E42076443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7223D-C3CA-4FE6-A5FA-1D108AC51D5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06E2-7FEF-428B-90F3-32EB9CA1C3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685800" y="76320"/>
            <a:ext cx="7756560" cy="345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F9A3-82B0-4858-B6A1-4A89C63D31F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5691-B477-46CC-A29E-AAFD752D516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8879-AE91-4D89-A11E-EC8F5E6E9BD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402B-C3D6-4ACE-8F42-04081F3E26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B791-7CE3-4314-8962-035011AF903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7950-1FE4-4BA9-9B23-6244793D52E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479F-1D09-4B05-913A-99E42042042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084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31000" y="10666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6858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084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31000" y="3764880"/>
            <a:ext cx="249732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4DF7-AB96-4194-A38C-B4FB2A689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0560" y="37648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BB63-5E8E-4D13-A342-DD10BCE07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560" y="1066680"/>
            <a:ext cx="378504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64880"/>
            <a:ext cx="775656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0F48B-3841-4441-9B3D-F86FCBF58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3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5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8D75F-7BBB-434A-BB7A-EED318E92CF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3"/>
          <p:cNvSpPr/>
          <p:nvPr/>
        </p:nvSpPr>
        <p:spPr>
          <a:xfrm>
            <a:off x="8458200" y="6095880"/>
            <a:ext cx="685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C22A4-457D-4497-81DE-34050BDF203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"/>
          <p:cNvSpPr/>
          <p:nvPr/>
        </p:nvSpPr>
        <p:spPr>
          <a:xfrm>
            <a:off x="8381880" y="60958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2B327-54D9-4606-A805-BA550838B00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3"/>
          <p:cNvSpPr/>
          <p:nvPr/>
        </p:nvSpPr>
        <p:spPr>
          <a:xfrm>
            <a:off x="8381880" y="60958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4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71C95-8C69-4A91-B56D-4B203BB2559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13"/>
          <p:cNvSpPr/>
          <p:nvPr/>
        </p:nvSpPr>
        <p:spPr>
          <a:xfrm>
            <a:off x="8381880" y="60958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5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E1D18-2375-4241-8985-8235CA0BD64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8153280" y="6419880"/>
            <a:ext cx="990720" cy="4381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6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CUAshield_4c.gif"/>
          <p:cNvPicPr/>
          <p:nvPr/>
        </p:nvPicPr>
        <p:blipFill>
          <a:blip r:embed="rId4"/>
          <a:stretch/>
        </p:blipFill>
        <p:spPr>
          <a:xfrm>
            <a:off x="8534520" y="6172200"/>
            <a:ext cx="4302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0" y="640080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CUAcenterstacked_4c.gif"/>
          <p:cNvPicPr/>
          <p:nvPr/>
        </p:nvPicPr>
        <p:blipFill>
          <a:blip r:embed="rId5"/>
          <a:srcRect l="0" t="0" r="0" b="45877"/>
          <a:stretch/>
        </p:blipFill>
        <p:spPr>
          <a:xfrm>
            <a:off x="76320" y="6386400"/>
            <a:ext cx="1447560" cy="4716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10"/>
          <p:cNvSpPr/>
          <p:nvPr/>
        </p:nvSpPr>
        <p:spPr>
          <a:xfrm>
            <a:off x="0" y="6019920"/>
            <a:ext cx="91440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8077320" y="6400800"/>
            <a:ext cx="1066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1" descr="CUAshield_4c.gif"/>
          <p:cNvPicPr/>
          <p:nvPr/>
        </p:nvPicPr>
        <p:blipFill>
          <a:blip r:embed="rId6"/>
          <a:stretch/>
        </p:blipFill>
        <p:spPr>
          <a:xfrm>
            <a:off x="8534520" y="6161040"/>
            <a:ext cx="438120" cy="6969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3"/>
          <p:cNvSpPr/>
          <p:nvPr/>
        </p:nvSpPr>
        <p:spPr>
          <a:xfrm>
            <a:off x="8381880" y="6095880"/>
            <a:ext cx="7621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56560" cy="7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56560" cy="516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6"/>
          </p:nvPr>
        </p:nvSpPr>
        <p:spPr>
          <a:xfrm>
            <a:off x="824508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DE7C2C-51AA-4C4D-A3FF-A7C980C44F5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27.wmf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image" Target="../media/image31.jpe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69"/>
          <p:cNvSpPr/>
          <p:nvPr/>
        </p:nvSpPr>
        <p:spPr>
          <a:xfrm>
            <a:off x="0" y="687240"/>
            <a:ext cx="8747280" cy="1293840"/>
          </a:xfrm>
          <a:prstGeom prst="rect">
            <a:avLst/>
          </a:prstGeom>
          <a:solidFill>
            <a:srgbClr val="4cfa82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1"/>
          <p:cNvSpPr/>
          <p:nvPr/>
        </p:nvSpPr>
        <p:spPr>
          <a:xfrm>
            <a:off x="0" y="609480"/>
            <a:ext cx="87631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ystal Calorimeter R&amp;D for the Electron-Ion Collider (E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67"/>
          <p:cNvSpPr/>
          <p:nvPr/>
        </p:nvSpPr>
        <p:spPr>
          <a:xfrm>
            <a:off x="287280" y="2774880"/>
            <a:ext cx="8856720" cy="1263600"/>
          </a:xfrm>
          <a:prstGeom prst="rect">
            <a:avLst/>
          </a:prstGeom>
          <a:solidFill>
            <a:srgbClr val="96fcb6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228600" y="2819520"/>
            <a:ext cx="8856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o Carmignotto, Gabriel Charle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nja Ho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iulia Hull, Carlos Munoz-Camacho, Arthur Mkrtchyan, Hamlet Mkrtchyan, Indra Sapkota, Sean Stoll, Craig Woody, Renyuan Zh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72"/>
          <p:cNvSpPr/>
          <p:nvPr/>
        </p:nvSpPr>
        <p:spPr>
          <a:xfrm>
            <a:off x="4533840" y="4268880"/>
            <a:ext cx="4381560" cy="1598400"/>
          </a:xfrm>
          <a:prstGeom prst="rect">
            <a:avLst/>
          </a:prstGeom>
          <a:solidFill>
            <a:srgbClr val="cefedd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22" descr="CUAcenterstacked_4c.gif"/>
          <p:cNvPicPr/>
          <p:nvPr/>
        </p:nvPicPr>
        <p:blipFill>
          <a:blip r:embed="rId1"/>
          <a:stretch/>
        </p:blipFill>
        <p:spPr>
          <a:xfrm>
            <a:off x="4613400" y="4389480"/>
            <a:ext cx="1247760" cy="752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Page d'accueil IPN"/>
          <p:cNvPicPr/>
          <p:nvPr/>
        </p:nvPicPr>
        <p:blipFill>
          <a:blip r:embed="rId2"/>
          <a:stretch/>
        </p:blipFill>
        <p:spPr>
          <a:xfrm>
            <a:off x="6137280" y="4346640"/>
            <a:ext cx="1174680" cy="736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9" descr="http://spyur.am/images/logo/3578.png"/>
          <p:cNvPicPr/>
          <p:nvPr/>
        </p:nvPicPr>
        <p:blipFill>
          <a:blip r:embed="rId3"/>
          <a:stretch/>
        </p:blipFill>
        <p:spPr>
          <a:xfrm>
            <a:off x="7753320" y="43545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3" descr="https://encrypted-tbn3.gstatic.com/images?q=tbn:ANd9GcR1q_t7wxBoSGsHXPjqgt3ikARx7rYuk7Q0YVLy_QZxWC2W09HlOA"/>
          <p:cNvPicPr/>
          <p:nvPr/>
        </p:nvPicPr>
        <p:blipFill>
          <a:blip r:embed="rId4"/>
          <a:stretch/>
        </p:blipFill>
        <p:spPr>
          <a:xfrm>
            <a:off x="4786200" y="5246640"/>
            <a:ext cx="1351080" cy="49536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25"/>
          <p:cNvSpPr/>
          <p:nvPr/>
        </p:nvSpPr>
        <p:spPr>
          <a:xfrm>
            <a:off x="1350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27" descr="http://ve4xm.caltech.edu/Bellan_plasma_page/citlogo.gif"/>
          <p:cNvPicPr/>
          <p:nvPr/>
        </p:nvPicPr>
        <p:blipFill>
          <a:blip r:embed="rId5"/>
          <a:stretch/>
        </p:blipFill>
        <p:spPr>
          <a:xfrm>
            <a:off x="6329520" y="5141880"/>
            <a:ext cx="631800" cy="6318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https://media.licdn.com/media/p/8/000/1b0/285/155a4a9.png"/>
          <p:cNvPicPr/>
          <p:nvPr/>
        </p:nvPicPr>
        <p:blipFill>
          <a:blip r:embed="rId6"/>
          <a:stretch/>
        </p:blipFill>
        <p:spPr>
          <a:xfrm>
            <a:off x="7165800" y="5311800"/>
            <a:ext cx="1460520" cy="36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1"/>
          <p:cNvSpPr/>
          <p:nvPr/>
        </p:nvSpPr>
        <p:spPr>
          <a:xfrm>
            <a:off x="365040" y="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PS Calorimeter Proto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 up infrastructure for crystal testing at univers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545000" y="941400"/>
            <a:ext cx="4675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N-Orsay group: </a:t>
            </a:r>
            <a:r>
              <a:rPr b="0" lang="en-US" sz="1100" spc="-1" strike="noStrike">
                <a:solidFill>
                  <a:srgbClr val="0505ff"/>
                </a:solidFill>
                <a:latin typeface="Arial"/>
              </a:rPr>
              <a:t>Gabriel Charles, Giulia Hull, Carlos Munoz-Camach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CB2D8-BFB7-4DE4-A2BA-24BFC6BC77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8" descr=""/>
          <p:cNvPicPr/>
          <p:nvPr/>
        </p:nvPicPr>
        <p:blipFill>
          <a:blip r:embed="rId1"/>
          <a:stretch/>
        </p:blipFill>
        <p:spPr>
          <a:xfrm>
            <a:off x="5338800" y="1515960"/>
            <a:ext cx="1709640" cy="1278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"/>
          <p:cNvPicPr/>
          <p:nvPr/>
        </p:nvPicPr>
        <p:blipFill>
          <a:blip r:embed="rId2"/>
          <a:stretch/>
        </p:blipFill>
        <p:spPr>
          <a:xfrm>
            <a:off x="7086600" y="1515960"/>
            <a:ext cx="1946160" cy="13906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1"/>
          <p:cNvSpPr/>
          <p:nvPr/>
        </p:nvSpPr>
        <p:spPr>
          <a:xfrm>
            <a:off x="528480" y="1371600"/>
            <a:ext cx="44197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n Cary 5000 (IPNO)and Perkin Elmer Lambda 750 spectrometers (CUA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87200" y="4267080"/>
            <a:ext cx="37083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ystal light y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165240" y="990720"/>
            <a:ext cx="4601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 Transmit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838080" y="1882800"/>
            <a:ext cx="40053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2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s absorption along and across the crystal with 1 nm wavelength resolution between 200 and 800 n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496800" y="2728800"/>
            <a:ext cx="445140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was commissioned with BTCP crystals on loan from University of Giess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474840" y="3305160"/>
            <a:ext cx="452088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accommodate 20-cm or longer crystals more versatile configurations were designed and are being bui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11" descr="Page d'accueil IPN"/>
          <p:cNvPicPr/>
          <p:nvPr/>
        </p:nvPicPr>
        <p:blipFill>
          <a:blip r:embed="rId3"/>
          <a:stretch/>
        </p:blipFill>
        <p:spPr>
          <a:xfrm>
            <a:off x="6586560" y="31680"/>
            <a:ext cx="1174680" cy="7365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2" descr="CUAcenterstacked_4c.gif"/>
          <p:cNvPicPr/>
          <p:nvPr/>
        </p:nvPicPr>
        <p:blipFill>
          <a:blip r:embed="rId4"/>
          <a:stretch/>
        </p:blipFill>
        <p:spPr>
          <a:xfrm>
            <a:off x="7896240" y="14400"/>
            <a:ext cx="1247760" cy="7506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" descr=""/>
          <p:cNvPicPr/>
          <p:nvPr/>
        </p:nvPicPr>
        <p:blipFill>
          <a:blip r:embed="rId5"/>
          <a:stretch/>
        </p:blipFill>
        <p:spPr>
          <a:xfrm>
            <a:off x="5308560" y="2994120"/>
            <a:ext cx="1955880" cy="10414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rystal3_position"/>
          <p:cNvPicPr/>
          <p:nvPr/>
        </p:nvPicPr>
        <p:blipFill>
          <a:blip r:embed="rId6"/>
          <a:stretch/>
        </p:blipFill>
        <p:spPr>
          <a:xfrm>
            <a:off x="7378560" y="2979720"/>
            <a:ext cx="1613160" cy="1211400"/>
          </a:xfrm>
          <a:prstGeom prst="rect">
            <a:avLst/>
          </a:prstGeom>
          <a:ln w="0">
            <a:noFill/>
          </a:ln>
        </p:spPr>
      </p:pic>
      <p:sp>
        <p:nvSpPr>
          <p:cNvPr id="332" name="Rectangle 11"/>
          <p:cNvSpPr/>
          <p:nvPr/>
        </p:nvSpPr>
        <p:spPr>
          <a:xfrm>
            <a:off x="4995720" y="1150920"/>
            <a:ext cx="414828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UA group: </a:t>
            </a:r>
            <a:r>
              <a:rPr b="0" lang="en-US" sz="1100" spc="-1" strike="noStrike">
                <a:solidFill>
                  <a:srgbClr val="0505ff"/>
                </a:solidFill>
                <a:latin typeface="Arial"/>
              </a:rPr>
              <a:t>Marco Carmignotto, Arthur Mkrtchyan, Tanja Hor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1"/>
          <p:cNvSpPr/>
          <p:nvPr/>
        </p:nvSpPr>
        <p:spPr>
          <a:xfrm>
            <a:off x="490680" y="4692600"/>
            <a:ext cx="3624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tup is currently being built with a source and calibrated PM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490680" y="5264280"/>
            <a:ext cx="34718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mperature-control of the setup is being explo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177840" y="5954760"/>
            <a:ext cx="393696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 for irradiation at the universities are being explore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Group 1"/>
          <p:cNvGrpSpPr/>
          <p:nvPr/>
        </p:nvGrpSpPr>
        <p:grpSpPr>
          <a:xfrm>
            <a:off x="4317840" y="4451400"/>
            <a:ext cx="3175200" cy="2073240"/>
            <a:chOff x="4317840" y="4451400"/>
            <a:chExt cx="3175200" cy="2073240"/>
          </a:xfrm>
        </p:grpSpPr>
        <p:pic>
          <p:nvPicPr>
            <p:cNvPr id="337" name="Picture 2" descr=""/>
            <p:cNvPicPr/>
            <p:nvPr/>
          </p:nvPicPr>
          <p:blipFill>
            <a:blip r:embed="rId7"/>
            <a:stretch/>
          </p:blipFill>
          <p:spPr>
            <a:xfrm>
              <a:off x="4317840" y="4451400"/>
              <a:ext cx="2995920" cy="20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Line 3"/>
            <p:cNvSpPr/>
            <p:nvPr/>
          </p:nvSpPr>
          <p:spPr>
            <a:xfrm>
              <a:off x="4484160" y="5078880"/>
              <a:ext cx="640440" cy="481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4"/>
            <p:cNvSpPr/>
            <p:nvPr/>
          </p:nvSpPr>
          <p:spPr>
            <a:xfrm flipV="1">
              <a:off x="6048720" y="5471640"/>
              <a:ext cx="237240" cy="400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5"/>
            <p:cNvSpPr/>
            <p:nvPr/>
          </p:nvSpPr>
          <p:spPr>
            <a:xfrm flipV="1">
              <a:off x="6642000" y="5487480"/>
              <a:ext cx="71640" cy="58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6"/>
            <p:cNvSpPr/>
            <p:nvPr/>
          </p:nvSpPr>
          <p:spPr>
            <a:xfrm>
              <a:off x="5075280" y="4817520"/>
              <a:ext cx="379800" cy="670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>
              <a:off x="4505760" y="4451400"/>
              <a:ext cx="113904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Lead blocks to avoid multiple hit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5807880" y="5847480"/>
              <a:ext cx="5695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Na-2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Text Box 9"/>
            <p:cNvSpPr/>
            <p:nvPr/>
          </p:nvSpPr>
          <p:spPr>
            <a:xfrm>
              <a:off x="6193800" y="6087600"/>
              <a:ext cx="129924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Trigger scintillato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(5mm)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Text Box 10"/>
            <p:cNvSpPr/>
            <p:nvPr/>
          </p:nvSpPr>
          <p:spPr>
            <a:xfrm>
              <a:off x="4350240" y="4817520"/>
              <a:ext cx="7358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PW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4356360" y="5801400"/>
              <a:ext cx="71856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  <a:ea typeface="Droid Sans Fallback"/>
                </a:rPr>
                <a:t>PM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2"/>
            <p:cNvSpPr/>
            <p:nvPr/>
          </p:nvSpPr>
          <p:spPr>
            <a:xfrm>
              <a:off x="4545000" y="6076800"/>
              <a:ext cx="294840" cy="10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48" name="Picture 6" descr=""/>
          <p:cNvPicPr/>
          <p:nvPr/>
        </p:nvPicPr>
        <p:blipFill>
          <a:blip r:embed="rId8"/>
          <a:srcRect l="2188" t="8694" r="7705" b="804"/>
          <a:stretch/>
        </p:blipFill>
        <p:spPr>
          <a:xfrm>
            <a:off x="7313760" y="4451400"/>
            <a:ext cx="1765080" cy="10508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9"/>
          <a:srcRect l="2046" t="8371" r="7820" b="3232"/>
          <a:stretch/>
        </p:blipFill>
        <p:spPr>
          <a:xfrm>
            <a:off x="7378560" y="5541840"/>
            <a:ext cx="1700280" cy="9874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"/>
          <p:cNvSpPr/>
          <p:nvPr/>
        </p:nvSpPr>
        <p:spPr>
          <a:xfrm>
            <a:off x="4572000" y="941400"/>
            <a:ext cx="4506840" cy="4302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Rounded Rectangle 25"/>
          <p:cNvGrpSpPr/>
          <p:nvPr/>
        </p:nvGrpSpPr>
        <p:grpSpPr>
          <a:xfrm>
            <a:off x="182520" y="4114800"/>
            <a:ext cx="7516800" cy="396720"/>
            <a:chOff x="182520" y="4114800"/>
            <a:chExt cx="7516800" cy="396720"/>
          </a:xfrm>
        </p:grpSpPr>
        <p:pic>
          <p:nvPicPr>
            <p:cNvPr id="352" name="Rounded Rectangle 25" descr=""/>
            <p:cNvPicPr/>
            <p:nvPr/>
          </p:nvPicPr>
          <p:blipFill>
            <a:blip r:embed="rId1"/>
            <a:stretch/>
          </p:blipFill>
          <p:spPr>
            <a:xfrm>
              <a:off x="182520" y="4114800"/>
              <a:ext cx="751680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00160" y="4133880"/>
              <a:ext cx="74768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Rounded Rectangle 1"/>
          <p:cNvGrpSpPr/>
          <p:nvPr/>
        </p:nvGrpSpPr>
        <p:grpSpPr>
          <a:xfrm>
            <a:off x="122400" y="2468520"/>
            <a:ext cx="5308560" cy="835200"/>
            <a:chOff x="122400" y="2468520"/>
            <a:chExt cx="5308560" cy="835200"/>
          </a:xfrm>
        </p:grpSpPr>
        <p:pic>
          <p:nvPicPr>
            <p:cNvPr id="355" name="Rounded Rectangle 1" descr=""/>
            <p:cNvPicPr/>
            <p:nvPr/>
          </p:nvPicPr>
          <p:blipFill>
            <a:blip r:embed="rId2"/>
            <a:stretch/>
          </p:blipFill>
          <p:spPr>
            <a:xfrm>
              <a:off x="122400" y="2468520"/>
              <a:ext cx="530856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163440" y="2513160"/>
              <a:ext cx="52293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7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lity tests of 2014 produced SIC PWO cryst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152280" y="914400"/>
            <a:ext cx="87933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tests carried out at JLab, Caltech, BNL, and Giess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ggest th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7471A-727E-4CD7-8471-2C6181CA13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Picture 14" descr=""/>
          <p:cNvPicPr/>
          <p:nvPr/>
        </p:nvPicPr>
        <p:blipFill>
          <a:blip r:embed="rId3"/>
          <a:stretch/>
        </p:blipFill>
        <p:spPr>
          <a:xfrm>
            <a:off x="6400800" y="12600"/>
            <a:ext cx="1084320" cy="795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3" descr=""/>
          <p:cNvPicPr/>
          <p:nvPr/>
        </p:nvPicPr>
        <p:blipFill>
          <a:blip r:embed="rId4"/>
          <a:stretch/>
        </p:blipFill>
        <p:spPr>
          <a:xfrm>
            <a:off x="7400880" y="-11160"/>
            <a:ext cx="1784520" cy="843120"/>
          </a:xfrm>
          <a:prstGeom prst="rect">
            <a:avLst/>
          </a:prstGeom>
          <a:ln w="0">
            <a:noFill/>
          </a:ln>
        </p:spPr>
      </p:pic>
      <p:sp>
        <p:nvSpPr>
          <p:cNvPr id="364" name="TextBox 3"/>
          <p:cNvSpPr/>
          <p:nvPr/>
        </p:nvSpPr>
        <p:spPr>
          <a:xfrm>
            <a:off x="380880" y="1338120"/>
            <a:ext cx="505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ystals are of better quality than previous 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Rectangle 11"/>
          <p:cNvSpPr/>
          <p:nvPr/>
        </p:nvSpPr>
        <p:spPr>
          <a:xfrm>
            <a:off x="380880" y="1752480"/>
            <a:ext cx="51055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ubset of the crystal samples is consistent with CMS quality standar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Box 1"/>
          <p:cNvSpPr/>
          <p:nvPr/>
        </p:nvSpPr>
        <p:spPr>
          <a:xfrm>
            <a:off x="2814480" y="2057400"/>
            <a:ext cx="244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147806"/>
                </a:solidFill>
                <a:latin typeface="Arial"/>
              </a:rPr>
              <a:t>[IEEE Trans.Nucl. Sci. NS-51 1777]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1" descr=""/>
          <p:cNvPicPr/>
          <p:nvPr/>
        </p:nvPicPr>
        <p:blipFill>
          <a:blip r:embed="rId5"/>
          <a:srcRect l="7645" t="15257" r="6756" b="15442"/>
          <a:stretch/>
        </p:blipFill>
        <p:spPr>
          <a:xfrm>
            <a:off x="5165640" y="4595760"/>
            <a:ext cx="3368880" cy="21067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8" descr=""/>
          <p:cNvPicPr/>
          <p:nvPr/>
        </p:nvPicPr>
        <p:blipFill>
          <a:blip r:embed="rId6"/>
          <a:stretch/>
        </p:blipFill>
        <p:spPr>
          <a:xfrm>
            <a:off x="2814480" y="4576680"/>
            <a:ext cx="2160720" cy="20574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3"/>
          <p:cNvSpPr/>
          <p:nvPr/>
        </p:nvSpPr>
        <p:spPr>
          <a:xfrm>
            <a:off x="122400" y="2471760"/>
            <a:ext cx="50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ill need to determine crystal homogene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7"/>
          <a:stretch/>
        </p:blipFill>
        <p:spPr>
          <a:xfrm>
            <a:off x="181080" y="4633920"/>
            <a:ext cx="2454120" cy="181296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1"/>
          <p:cNvSpPr/>
          <p:nvPr/>
        </p:nvSpPr>
        <p:spPr>
          <a:xfrm>
            <a:off x="122400" y="3379680"/>
            <a:ext cx="879300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liminary resul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irradiation with beam in Idaho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 tes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a subset of crystals in Giessen suggest that crystals have high radiation resi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Box 3"/>
          <p:cNvSpPr/>
          <p:nvPr/>
        </p:nvSpPr>
        <p:spPr>
          <a:xfrm>
            <a:off x="158760" y="2895480"/>
            <a:ext cx="53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tup dependent systematic effects under stu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Box 3"/>
          <p:cNvSpPr/>
          <p:nvPr/>
        </p:nvSpPr>
        <p:spPr>
          <a:xfrm>
            <a:off x="158760" y="4140360"/>
            <a:ext cx="77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rther tests to better understand radiation damage effects under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Straight Connector 3"/>
          <p:cNvSpPr/>
          <p:nvPr/>
        </p:nvSpPr>
        <p:spPr>
          <a:xfrm>
            <a:off x="5556240" y="5181480"/>
            <a:ext cx="2317680" cy="0"/>
          </a:xfrm>
          <a:prstGeom prst="line">
            <a:avLst/>
          </a:prstGeom>
          <a:ln w="25560">
            <a:solidFill>
              <a:srgbClr val="050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Box 4"/>
          <p:cNvSpPr/>
          <p:nvPr/>
        </p:nvSpPr>
        <p:spPr>
          <a:xfrm>
            <a:off x="6593040" y="4935600"/>
            <a:ext cx="1407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505ff"/>
                </a:solidFill>
                <a:latin typeface="Arial"/>
              </a:rPr>
              <a:t>PANDA Crystal spec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Box 29"/>
          <p:cNvSpPr/>
          <p:nvPr/>
        </p:nvSpPr>
        <p:spPr>
          <a:xfrm>
            <a:off x="6045120" y="2905200"/>
            <a:ext cx="23954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147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147806"/>
                </a:solidFill>
                <a:latin typeface="Arial"/>
              </a:rPr>
              <a:t>Systematic differences between setup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" descr=""/>
          <p:cNvPicPr/>
          <p:nvPr/>
        </p:nvPicPr>
        <p:blipFill>
          <a:blip r:embed="rId8"/>
          <a:srcRect l="8272" t="0" r="0" b="5600"/>
          <a:stretch/>
        </p:blipFill>
        <p:spPr>
          <a:xfrm>
            <a:off x="8153280" y="1617840"/>
            <a:ext cx="990720" cy="1069920"/>
          </a:xfrm>
          <a:prstGeom prst="rect">
            <a:avLst/>
          </a:prstGeom>
          <a:ln w="0">
            <a:noFill/>
          </a:ln>
        </p:spPr>
      </p:pic>
      <p:sp>
        <p:nvSpPr>
          <p:cNvPr id="378" name="TextBox 32"/>
          <p:cNvSpPr/>
          <p:nvPr/>
        </p:nvSpPr>
        <p:spPr>
          <a:xfrm>
            <a:off x="6029280" y="1371600"/>
            <a:ext cx="55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JLab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2"/>
          <p:cNvGrpSpPr/>
          <p:nvPr/>
        </p:nvGrpSpPr>
        <p:grpSpPr>
          <a:xfrm>
            <a:off x="6805080" y="1590840"/>
            <a:ext cx="1371960" cy="1179360"/>
            <a:chOff x="6805080" y="1590840"/>
            <a:chExt cx="1371960" cy="1179360"/>
          </a:xfrm>
        </p:grpSpPr>
        <p:graphicFrame>
          <p:nvGraphicFramePr>
            <p:cNvPr id="380" name="Object 1"/>
            <p:cNvGraphicFramePr/>
            <p:nvPr/>
          </p:nvGraphicFramePr>
          <p:xfrm>
            <a:off x="6811560" y="1590840"/>
            <a:ext cx="1365480" cy="1179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81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11560" y="1590840"/>
                      <a:ext cx="1365480" cy="117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2" name="Rectangle 1"/>
            <p:cNvSpPr/>
            <p:nvPr/>
          </p:nvSpPr>
          <p:spPr>
            <a:xfrm>
              <a:off x="7425360" y="2711880"/>
              <a:ext cx="319320" cy="5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Rectangle 32"/>
            <p:cNvSpPr/>
            <p:nvPr/>
          </p:nvSpPr>
          <p:spPr>
            <a:xfrm rot="5400000">
              <a:off x="6650280" y="2135520"/>
              <a:ext cx="354600" cy="45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TextBox 3"/>
          <p:cNvSpPr/>
          <p:nvPr/>
        </p:nvSpPr>
        <p:spPr>
          <a:xfrm>
            <a:off x="8134200" y="2681280"/>
            <a:ext cx="100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velength (nm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1" descr=""/>
          <p:cNvPicPr/>
          <p:nvPr/>
        </p:nvPicPr>
        <p:blipFill>
          <a:blip r:embed="rId11"/>
          <a:srcRect l="13430" t="48683" r="47300" b="15773"/>
          <a:stretch/>
        </p:blipFill>
        <p:spPr>
          <a:xfrm>
            <a:off x="5572080" y="1581120"/>
            <a:ext cx="1287360" cy="11653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31"/>
          <p:cNvSpPr/>
          <p:nvPr/>
        </p:nvSpPr>
        <p:spPr>
          <a:xfrm rot="16200000">
            <a:off x="5031360" y="1967400"/>
            <a:ext cx="102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ance (%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2"/>
          <p:cNvSpPr/>
          <p:nvPr/>
        </p:nvSpPr>
        <p:spPr>
          <a:xfrm>
            <a:off x="7323120" y="1371600"/>
            <a:ext cx="525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BNL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Box 32"/>
          <p:cNvSpPr/>
          <p:nvPr/>
        </p:nvSpPr>
        <p:spPr>
          <a:xfrm>
            <a:off x="8299440" y="1371600"/>
            <a:ext cx="65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2060"/>
                </a:solidFill>
                <a:latin typeface="Arial"/>
              </a:rPr>
              <a:t>Caltech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3"/>
          <p:cNvSpPr/>
          <p:nvPr/>
        </p:nvSpPr>
        <p:spPr>
          <a:xfrm>
            <a:off x="7524720" y="6629400"/>
            <a:ext cx="1009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velength (nm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Rounded Rectangle 1"/>
          <p:cNvGrpSpPr/>
          <p:nvPr/>
        </p:nvGrpSpPr>
        <p:grpSpPr>
          <a:xfrm>
            <a:off x="176040" y="5132520"/>
            <a:ext cx="3865680" cy="1573200"/>
            <a:chOff x="176040" y="5132520"/>
            <a:chExt cx="3865680" cy="1573200"/>
          </a:xfrm>
        </p:grpSpPr>
        <p:pic>
          <p:nvPicPr>
            <p:cNvPr id="391" name="Rounded Rectangle 1" descr=""/>
            <p:cNvPicPr/>
            <p:nvPr/>
          </p:nvPicPr>
          <p:blipFill>
            <a:blip r:embed="rId1"/>
            <a:stretch/>
          </p:blipFill>
          <p:spPr>
            <a:xfrm>
              <a:off x="176040" y="5132520"/>
              <a:ext cx="38656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252360" y="5210280"/>
              <a:ext cx="3710160" cy="14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3" name="Grafik 1" descr=""/>
          <p:cNvPicPr/>
          <p:nvPr/>
        </p:nvPicPr>
        <p:blipFill>
          <a:blip r:embed="rId2"/>
          <a:stretch/>
        </p:blipFill>
        <p:spPr>
          <a:xfrm>
            <a:off x="4338720" y="3881520"/>
            <a:ext cx="4605120" cy="2562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20150515_103052"/>
          <p:cNvPicPr/>
          <p:nvPr/>
        </p:nvPicPr>
        <p:blipFill>
          <a:blip r:embed="rId3"/>
          <a:srcRect l="0" t="31818" r="0" b="14343"/>
          <a:stretch/>
        </p:blipFill>
        <p:spPr>
          <a:xfrm>
            <a:off x="7064280" y="0"/>
            <a:ext cx="2086200" cy="63180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3"/>
          <p:cNvSpPr/>
          <p:nvPr/>
        </p:nvSpPr>
        <p:spPr>
          <a:xfrm>
            <a:off x="7467480" y="4648320"/>
            <a:ext cx="914400" cy="514080"/>
          </a:xfrm>
          <a:prstGeom prst="rect">
            <a:avLst/>
          </a:prstGeom>
          <a:noFill/>
          <a:ln w="414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2"/>
          <p:cNvSpPr/>
          <p:nvPr/>
        </p:nvSpPr>
        <p:spPr>
          <a:xfrm>
            <a:off x="-936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-468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tatus of CRYTUR Crystal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165240" y="990720"/>
            <a:ext cx="418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2d2db9"/>
                </a:solidFill>
                <a:latin typeface="Arial"/>
              </a:rPr>
              <a:t>First full-size crystal produced with size 2x2x20cm</a:t>
            </a:r>
            <a:r>
              <a:rPr b="0" lang="en-US" sz="1800" spc="-1" strike="noStrike" baseline="30000">
                <a:solidFill>
                  <a:srgbClr val="2d2db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0880" y="2292480"/>
            <a:ext cx="3543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longitudinal inhomogene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380880" y="1649520"/>
            <a:ext cx="33274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ed using raw material from BTC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11"/>
          <p:cNvSpPr/>
          <p:nvPr/>
        </p:nvSpPr>
        <p:spPr>
          <a:xfrm>
            <a:off x="165240" y="2743200"/>
            <a:ext cx="4173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of optical and radiation hardness studies suggest that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11"/>
          <p:cNvSpPr/>
          <p:nvPr/>
        </p:nvSpPr>
        <p:spPr>
          <a:xfrm>
            <a:off x="457200" y="3994200"/>
            <a:ext cx="3881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rystals have sufficient light yiel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>
            <a:off x="457200" y="4410000"/>
            <a:ext cx="377820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rystals are radiation hard for  dose rates go up to 100 Gy (spec: 30 Gy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1"/>
          <p:cNvSpPr/>
          <p:nvPr/>
        </p:nvSpPr>
        <p:spPr>
          <a:xfrm>
            <a:off x="412920" y="3381480"/>
            <a:ext cx="38541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mittance falls within 8% of the BTCP crystals at 420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Grafik 5" descr=""/>
          <p:cNvPicPr/>
          <p:nvPr/>
        </p:nvPicPr>
        <p:blipFill>
          <a:blip r:embed="rId4"/>
          <a:stretch/>
        </p:blipFill>
        <p:spPr>
          <a:xfrm>
            <a:off x="4694400" y="990720"/>
            <a:ext cx="4190760" cy="255276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1"/>
          <p:cNvSpPr/>
          <p:nvPr/>
        </p:nvSpPr>
        <p:spPr>
          <a:xfrm>
            <a:off x="176040" y="5133960"/>
            <a:ext cx="41752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at CRYTU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457200" y="5518080"/>
            <a:ext cx="3733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rastructure upgrades expected mid-July; production in Augu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11"/>
          <p:cNvSpPr/>
          <p:nvPr/>
        </p:nvSpPr>
        <p:spPr>
          <a:xfrm>
            <a:off x="457200" y="6172200"/>
            <a:ext cx="3817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paid orders of R&amp;D crystals from Giessen and Uppsal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Rounded Rectangle 25"/>
          <p:cNvGrpSpPr/>
          <p:nvPr/>
        </p:nvGrpSpPr>
        <p:grpSpPr>
          <a:xfrm>
            <a:off x="304920" y="5943600"/>
            <a:ext cx="8242200" cy="676440"/>
            <a:chOff x="304920" y="5943600"/>
            <a:chExt cx="8242200" cy="676440"/>
          </a:xfrm>
        </p:grpSpPr>
        <p:pic>
          <p:nvPicPr>
            <p:cNvPr id="410" name="Rounded Rectangle 25" descr=""/>
            <p:cNvPicPr/>
            <p:nvPr/>
          </p:nvPicPr>
          <p:blipFill>
            <a:blip r:embed="rId1"/>
            <a:stretch/>
          </p:blipFill>
          <p:spPr>
            <a:xfrm>
              <a:off x="304920" y="5943600"/>
              <a:ext cx="8242200" cy="67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338040" y="5977080"/>
              <a:ext cx="817740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Rounded Rectangle 24"/>
          <p:cNvGrpSpPr/>
          <p:nvPr/>
        </p:nvGrpSpPr>
        <p:grpSpPr>
          <a:xfrm>
            <a:off x="281160" y="3505320"/>
            <a:ext cx="4522680" cy="676080"/>
            <a:chOff x="281160" y="3505320"/>
            <a:chExt cx="4522680" cy="676080"/>
          </a:xfrm>
        </p:grpSpPr>
        <p:pic>
          <p:nvPicPr>
            <p:cNvPr id="413" name="Rounded Rectangle 24" descr=""/>
            <p:cNvPicPr/>
            <p:nvPr/>
          </p:nvPicPr>
          <p:blipFill>
            <a:blip r:embed="rId2"/>
            <a:stretch/>
          </p:blipFill>
          <p:spPr>
            <a:xfrm>
              <a:off x="281160" y="3505320"/>
              <a:ext cx="45226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312840" y="3538440"/>
              <a:ext cx="445428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5" name="Text Box 1"/>
          <p:cNvSpPr/>
          <p:nvPr/>
        </p:nvSpPr>
        <p:spPr>
          <a:xfrm>
            <a:off x="365040" y="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PS Calorimeter Proto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s for FY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1B1EB-FC6E-42BF-8875-F3C5B25F67C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4" descr=""/>
          <p:cNvPicPr/>
          <p:nvPr/>
        </p:nvPicPr>
        <p:blipFill>
          <a:blip r:embed="rId3"/>
          <a:srcRect l="8554" t="27025" r="4609" b="39307"/>
          <a:stretch/>
        </p:blipFill>
        <p:spPr>
          <a:xfrm>
            <a:off x="5486400" y="1030320"/>
            <a:ext cx="3527280" cy="10270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"/>
          <p:cNvPicPr/>
          <p:nvPr/>
        </p:nvPicPr>
        <p:blipFill>
          <a:blip r:embed="rId4"/>
          <a:srcRect l="1473" t="4936" r="2760" b="13337"/>
          <a:stretch/>
        </p:blipFill>
        <p:spPr>
          <a:xfrm>
            <a:off x="5486400" y="2281320"/>
            <a:ext cx="3527280" cy="225720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1"/>
          <p:cNvSpPr/>
          <p:nvPr/>
        </p:nvSpPr>
        <p:spPr>
          <a:xfrm>
            <a:off x="76320" y="914400"/>
            <a:ext cx="524664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e infrastructure for crystal testing at, e.g., IPNO and understand systematic effects in the characterization of SIC cryst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11"/>
          <p:cNvSpPr/>
          <p:nvPr/>
        </p:nvSpPr>
        <p:spPr>
          <a:xfrm>
            <a:off x="341280" y="3517920"/>
            <a:ext cx="48848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n essential aspect to quantify homogeneity of crystals produced at S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365040" y="1828800"/>
            <a:ext cx="486108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ynergistic with independent research for the Neutral Particle Spectrometer project at JLa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11"/>
          <p:cNvSpPr/>
          <p:nvPr/>
        </p:nvSpPr>
        <p:spPr>
          <a:xfrm>
            <a:off x="685800" y="24382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 part of this project a set of SIC crystals has been investig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11"/>
          <p:cNvSpPr/>
          <p:nvPr/>
        </p:nvSpPr>
        <p:spPr>
          <a:xfrm>
            <a:off x="685800" y="2895480"/>
            <a:ext cx="454032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est setup including optical properties and crystal homogeneity is being developed at CU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11"/>
          <p:cNvSpPr/>
          <p:nvPr/>
        </p:nvSpPr>
        <p:spPr>
          <a:xfrm>
            <a:off x="76320" y="4384800"/>
            <a:ext cx="524664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ure full-sized crystals from Crytur and evaluate crystal-to-crystal vari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50760" y="5105520"/>
            <a:ext cx="8962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prototype to study the crystals in test beam and measure the actual energy and position resolution – also allows for testing a SiPM-based read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1"/>
          <p:cNvSpPr/>
          <p:nvPr/>
        </p:nvSpPr>
        <p:spPr>
          <a:xfrm>
            <a:off x="290520" y="5943600"/>
            <a:ext cx="82580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measurements would provide additional important information on crystal specifications and their impact on EIC detector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5486400" y="4572000"/>
            <a:ext cx="35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utral Particle Spectrometer prototype produced with 3D printing 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1"/>
          <p:cNvSpPr/>
          <p:nvPr/>
        </p:nvSpPr>
        <p:spPr>
          <a:xfrm>
            <a:off x="365040" y="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PS Calorimeter Proto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uture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BCE75-717E-4CA2-BBD3-925A675DBD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11"/>
          <p:cNvSpPr/>
          <p:nvPr/>
        </p:nvSpPr>
        <p:spPr>
          <a:xfrm>
            <a:off x="1295280" y="1144440"/>
            <a:ext cx="61596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Goals: Optimize geometry, cooling, and choices of readout system of the endcap inner calorime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11"/>
          <p:cNvSpPr/>
          <p:nvPr/>
        </p:nvSpPr>
        <p:spPr>
          <a:xfrm>
            <a:off x="512640" y="2679840"/>
            <a:ext cx="78645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ling and choice of temperature are important aspects for crystal calorimetry. The choice of temperature balances light output and radiation recovery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11"/>
          <p:cNvSpPr/>
          <p:nvPr/>
        </p:nvSpPr>
        <p:spPr>
          <a:xfrm>
            <a:off x="525600" y="3459240"/>
            <a:ext cx="80420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ling techniques have been explored for PANDA and CMS. The type of cooling and avoiding condensation depend to some extend on environmental facto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76320" y="4336920"/>
            <a:ext cx="8305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if cooling is the optimal choice to reduce readout noise and if it is how to implement such a syst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11"/>
          <p:cNvSpPr/>
          <p:nvPr/>
        </p:nvSpPr>
        <p:spPr>
          <a:xfrm>
            <a:off x="76320" y="2176560"/>
            <a:ext cx="89406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how cooling could be achieved for the inner endcap calorimeter for E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1"/>
          <p:cNvSpPr/>
          <p:nvPr/>
        </p:nvSpPr>
        <p:spPr>
          <a:xfrm>
            <a:off x="704880" y="5086440"/>
            <a:ext cx="78645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initial studies with a SiPM-based readout have shown significant effects of noise at room temperature emphasizing the need for coolin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"/>
          <p:cNvSpPr/>
          <p:nvPr/>
        </p:nvSpPr>
        <p:spPr>
          <a:xfrm>
            <a:off x="1295280" y="1144440"/>
            <a:ext cx="6324840" cy="70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365040" y="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PS Calorimeter Prototyp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-4680" y="0"/>
            <a:ext cx="6324480" cy="831960"/>
          </a:xfrm>
          <a:prstGeom prst="rect">
            <a:avLst/>
          </a:prstGeom>
          <a:solidFill>
            <a:srgbClr val="96fc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2"/>
          <p:cNvSpPr/>
          <p:nvPr/>
        </p:nvSpPr>
        <p:spPr>
          <a:xfrm>
            <a:off x="0" y="0"/>
            <a:ext cx="6319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udg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Slide Number Placeholder 1"/>
          <p:cNvSpPr/>
          <p:nvPr/>
        </p:nvSpPr>
        <p:spPr>
          <a:xfrm>
            <a:off x="8245440" y="6461280"/>
            <a:ext cx="746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2520B-98DE-47E8-8DBA-3DC5D52EA2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2280" y="1066680"/>
          <a:ext cx="6613560" cy="2438640"/>
        </p:xfrm>
        <a:graphic>
          <a:graphicData uri="http://schemas.openxmlformats.org/drawingml/2006/table">
            <a:tbl>
              <a:tblPr/>
              <a:tblGrid>
                <a:gridCol w="2212920"/>
                <a:gridCol w="541440"/>
                <a:gridCol w="558720"/>
                <a:gridCol w="517680"/>
                <a:gridCol w="517680"/>
                <a:gridCol w="582480"/>
                <a:gridCol w="517680"/>
                <a:gridCol w="582480"/>
                <a:gridCol w="582480"/>
              </a:tblGrid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6 by Quar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7 by Quar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iverabl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ure crystals from Crytu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ystal quality test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 Damage studi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truct prototype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st prototyp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orimeter configura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ling system studie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out system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dout noise reduc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9" name=""/>
          <p:cNvGraphicFramePr/>
          <p:nvPr/>
        </p:nvGraphicFramePr>
        <p:xfrm>
          <a:off x="2895480" y="3886200"/>
          <a:ext cx="5699160" cy="2133720"/>
        </p:xfrm>
        <a:graphic>
          <a:graphicData uri="http://schemas.openxmlformats.org/drawingml/2006/table">
            <a:tbl>
              <a:tblPr/>
              <a:tblGrid>
                <a:gridCol w="2992680"/>
                <a:gridCol w="1352520"/>
                <a:gridCol w="1353960"/>
              </a:tblGrid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io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6 ($K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7 ($k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LAB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N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ltech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PN Orsa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rev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50" name=""/>
          <p:cNvGraphicFramePr/>
          <p:nvPr/>
        </p:nvGraphicFramePr>
        <p:xfrm>
          <a:off x="6759720" y="1066680"/>
          <a:ext cx="2265120" cy="2438640"/>
        </p:xfrm>
        <a:graphic>
          <a:graphicData uri="http://schemas.openxmlformats.org/drawingml/2006/table">
            <a:tbl>
              <a:tblPr/>
              <a:tblGrid>
                <a:gridCol w="582480"/>
                <a:gridCol w="517680"/>
                <a:gridCol w="582480"/>
                <a:gridCol w="582480"/>
              </a:tblGrid>
              <a:tr h="2224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18 by Quarter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5:00:19Z</dcterms:created>
  <dc:creator>Tanja Horn</dc:creator>
  <dc:description/>
  <dc:language>en-US</dc:language>
  <cp:lastModifiedBy>hornt</cp:lastModifiedBy>
  <cp:lastPrinted>2014-04-03T17:43:53Z</cp:lastPrinted>
  <dcterms:modified xsi:type="dcterms:W3CDTF">2015-07-01T03:19:00Z</dcterms:modified>
  <cp:revision>2353</cp:revision>
  <dc:subject/>
  <dc:title>Exclusive pion/kaon production at 6&amp;12GeV JLab and EIC</dc:title>
</cp:coreProperties>
</file>